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7B2E-7576-4DD0-A439-99F8920BC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9A33-6BD5-4379-8C36-F94E429914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DCB8-D78C-455A-A35F-6DAB874AC1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2B9E-4228-4A7D-8E7A-56BB9A0AD1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7F49-D35C-4A11-A4BB-572152B722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FC44-FE05-485B-8C6E-4A754B42D9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8163-A418-4AF2-BE16-894716CD35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849E-1E49-48CD-899A-892318595A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E8AF-783C-4DD2-85C1-7FD445837C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55E5-1E3B-4336-8D10-C31A877F85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ED24-6330-40B0-8423-4F141B1D70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5B8A-ACAA-4312-8744-FFB89FE60B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B235-58C0-4614-805D-28DB665A05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D3E9-4A6E-4446-9DEB-39EF8FACEB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6860-240B-4D70-BE36-9581B16DF7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ED13-9D3C-43B5-81C7-127C59ADD9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BAB9-FC91-4A5C-9BB7-9C8579B485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C59E-3BC7-4E44-A59A-906612376F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2481-009A-448A-979D-158D0475A8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BF8-B5CF-4981-99F2-2EFC7CC866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E19C-B6A1-418F-AF98-64523D007F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46B8-D744-4A82-B8C8-F1D3C84B4A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37A9-716C-4849-846D-1D4A0E7074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AE4-8429-411B-8296-B17B2CC4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C03-896F-4065-9453-CCA7A617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956-F434-4332-9B9D-1FBB6C1A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AA1-CBEF-4A43-A8FE-94088FFD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260E-73AE-455E-B695-E3AD0B41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EE83-6B6F-4306-B31B-91B0C770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3F3E-2D7F-4D15-BF40-99B780FF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3CB2-013A-4E2E-8616-A4748C71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9C27-0696-4E30-9778-71DD6536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7C79-7CBB-48B7-870B-B27450DD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99F0-A1F1-4DD0-90BC-8E6DD09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DF1-B8FB-4BA7-BBC4-45489BE2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E686-9327-41AE-94AB-70F36FC5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B5B8-571B-4BFD-A340-728A0821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B41-466F-4854-A821-EB8DB576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A35E-40C8-4137-9799-F563923B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0EA8-8C25-4362-9321-5B62788A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E9A-AEF6-4982-9E18-3D8E17D7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9BC-5733-4929-B18C-7650F71D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4B0-C776-45D5-B7F3-47EA5915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8FC-9ABE-47CB-BD07-E85E8B5F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C4C-204E-4EC1-9473-628144B0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9A1-BA08-43CB-AD3D-8DF0B3A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E19-97AF-4D07-807D-1043FC80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57AE-50D2-4CC7-9459-F411254DB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E23E-787C-4D97-A21C-855B6BD4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14475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pital Budgeting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d Corporate Valuation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icing your expansion and determining the value of your compan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chinery Cost Savings Projec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66680" y="2133720"/>
          <a:ext cx="7540920" cy="3216240"/>
        </p:xfrm>
        <a:graphic>
          <a:graphicData uri="http://schemas.openxmlformats.org/drawingml/2006/table">
            <a:tbl>
              <a:tblPr/>
              <a:tblGrid>
                <a:gridCol w="990720"/>
                <a:gridCol w="1163520"/>
                <a:gridCol w="1076400"/>
                <a:gridCol w="1079640"/>
                <a:gridCol w="1076400"/>
                <a:gridCol w="1077840"/>
                <a:gridCol w="10764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V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8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79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7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63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56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 F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00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Val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00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9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3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t 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224"/>
          <p:cNvSpPr/>
          <p:nvPr/>
        </p:nvSpPr>
        <p:spPr>
          <a:xfrm>
            <a:off x="3958920" y="480060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ceeds the 12% hurd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228"/>
          <p:cNvSpPr/>
          <p:nvPr/>
        </p:nvSpPr>
        <p:spPr>
          <a:xfrm>
            <a:off x="2329200" y="5518080"/>
            <a:ext cx="37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 VALUE TOTAL IS 1024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paring Different Investment Opportuniti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ver done exclusively on a quantitative approach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keting assumpt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eti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g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gula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uman Resour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viron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nal Rate of Return (IRR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lculate the NPV to a zero fa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cel offers formulas for both NPV and IR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ybac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long will it take to repay the amount of the capital investm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includes cash inflow from the proj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fitability Index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tio of the present value of cash inflows divided by the present value of cash outflo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$100,000 investment will yield a $30,000 cash inflow for the next five years. 150000/100000 = 1.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lculating a Hurdle Ra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ually is determined by WACC or weighted average cost of capi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become subjec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sed on the portion of debt to equity and then using an asset pricing model (comparison) for weighting. Rather complicate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ommon and accepted rate is 10-15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rporate 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rket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quidation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lacement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counted Cash Fl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ue of Future Earnin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ff Balance 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ook Valu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t the market valu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quals the total equity on the balance she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es not accurately depict depreciated asset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ery straight forwa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rket Valu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rket value verses Book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a P-E rat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ce to earnings rat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Assets – Liabilities in liquidations = Market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quidation Valu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ected net proceeds after expenses and taxes  of selling a company’s asse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ually the bottom l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pital Budge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ome statement provides some indication of profitability but not of true return value or value of capital investme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turn on capital should be measured on a cash-flow basis and take time into accoun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placement Valu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times the cost of starting your own business rather than buying into one is desirabl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tarting a new business, one must compensate for marketing cost to meet sales projected. Very easy to underestimat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counted Cash Flo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sed on a three to five year cash projection much like a start-up busi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tilizing proven marketing history and weighted valuations to calculate the expected cash fl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alue of Future Earning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lculating a multipli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ually 2-4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n income is increased each yea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of three years is accepted valued pr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ff Balance 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alues that are not identified as asse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se or rental contra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mailing li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llectual Proper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perienced Staf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uter Softw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pital Budgeting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mulate the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e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a dec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 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ke corrective a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conomic value add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asuring whether a business or investment is justified because its earnings exceed its cost of capit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times other factors justify investment or capital expansion, i.e. goodwill, business strategies, or personnel resourc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antitative perspective includ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ime value of mon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scounted cash flow analys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ion of proj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PV – Net Present Valu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nal rate of retur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ybac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fitability index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me value of mone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urdle Rate – (Reinvestment rate or opportunity cost of fund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on rate used is 12%, but too low for start-u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calculate future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ue plus intere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lculate Present value fa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 ÷ Future valu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ultiply present value and present value factor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70160" y="1827360"/>
          <a:ext cx="7088040" cy="3262320"/>
        </p:xfrm>
        <a:graphic>
          <a:graphicData uri="http://schemas.openxmlformats.org/drawingml/2006/table">
            <a:tbl>
              <a:tblPr/>
              <a:tblGrid>
                <a:gridCol w="1477800"/>
                <a:gridCol w="812880"/>
                <a:gridCol w="885600"/>
                <a:gridCol w="1035360"/>
                <a:gridCol w="1106280"/>
                <a:gridCol w="960480"/>
                <a:gridCol w="809640"/>
              </a:tblGrid>
              <a:tr h="84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ture Valu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Valu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to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8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5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1"/>
          <p:cNvSpPr/>
          <p:nvPr/>
        </p:nvSpPr>
        <p:spPr>
          <a:xfrm>
            <a:off x="1295280" y="54864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 value factor is equal to present value/future val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counted Cash Flo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cash outflows and inflo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timate Ris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tilize the time value of mon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et Present Valu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sent value of all cash inflows and outflows from a capital expan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positive NPV is desir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23:34:14Z</dcterms:created>
  <dc:creator>David McNaughton</dc:creator>
  <dc:description/>
  <dc:language>en-US</dc:language>
  <cp:lastModifiedBy>User</cp:lastModifiedBy>
  <dcterms:modified xsi:type="dcterms:W3CDTF">2012-03-29T12:59:15Z</dcterms:modified>
  <cp:revision>7</cp:revision>
  <dc:subject/>
  <dc:title>Chapter 7  Capital Budgeting  and Corporate Valuation</dc:title>
</cp:coreProperties>
</file>